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785D4-61E6-4216-9DBA-B1E0034F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DCA65-5FBF-43D8-8F1F-44306E5D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EC78-7687-48FD-BA0F-4C3BCB99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EE968-9954-4874-83AE-E9104B93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C3DC-BD98-433B-8014-1BDEB53D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2692-8A71-4E4C-8CF0-241C14F9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5AE4-3002-42D8-8520-D9CC3D67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3B76-F190-4753-831D-CF87E9A7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7121-A5B1-451E-B8C1-A98CE72B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1EF7-7FC4-4BD2-B1BB-AB0BFC5A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67E0-4FA7-4890-B928-C8D5293C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9B691-2E94-430A-805B-7B005EA6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72A8-669E-40AA-86BE-F8418267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7A72-DEB3-4C2B-9745-55B893B1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0202-0E48-465A-B050-52F23B31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7D06-E8B4-47F4-B109-4FE5B895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9183-8C96-4A75-86FE-94CDA075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72E46-C669-4C19-9D0B-1E2F66DF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FA42-EEB3-420D-BED7-62563DB7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3FBF1-C03D-4DFA-8DC7-A2218E04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CB95D-A76B-4150-8F25-6EC1B430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4B55F-FC11-4D0F-BBAA-C6F908FF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BA1A4-7B9A-41CB-9A4A-9FE56133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A3AA2-16B0-4E79-861C-9B8B42EA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4CCD-B617-4DF0-BB75-D2D161452E7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7D19-1E5F-4E15-A4EE-47FFE7FE4B0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300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Educational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r. Alaa Sadi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partment of Instructional &amp; Learning Technolog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ww.alaasadik.n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laasadik@squ.edu.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3800" y="2276640"/>
            <a:ext cx="646200" cy="720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16000" y="2924280"/>
            <a:ext cx="646200" cy="72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646200" cy="72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268360" y="1628640"/>
            <a:ext cx="6462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Literacy (V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3. Enhancing student’s visual literacy: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By asking your students the right questions, they can learn to read and discover the story behind the imag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Literacy (V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3. Enhancing student’s visual literacy: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nformation is convey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s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re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lothing worn in the photograp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ckgr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use of pro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Literacy (V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3. Enhancing student’s visual literacy: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ho created the im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ho is the audience of the im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or what purpose was the image cr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hat is the message of the im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hy was the image arranged that w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Literacy (V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4. Student objectives/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actice the skills of observing and interpreting photograp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form visual information into strong descriptive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/create images that describe/illustrate a specific point of view or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988640"/>
            <a:ext cx="82296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Visual Elements</a:t>
            </a:r>
            <a:br>
              <a:rPr sz="3600"/>
            </a:b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yntax and Seman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: Syntax and Semant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Language of Visual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Visuals are a </a:t>
            </a:r>
            <a:r>
              <a:rPr b="0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language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that allow us to produce and communicate thoughts and images about re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e symbols used in visual communication </a:t>
            </a:r>
            <a:r>
              <a:rPr b="0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are not a fixed vocabulary (dictionary)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: Syntax and Semant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Language of Visual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Visual communication is made up of symbols whose </a:t>
            </a:r>
            <a:r>
              <a:rPr b="0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meaning results from their context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A visual meaning is formed by </a:t>
            </a:r>
            <a:r>
              <a:rPr b="0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seeing and thinking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: Syntax and Semant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Visual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emantic is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the study of language </a:t>
            </a:r>
            <a:r>
              <a:rPr b="0" lang="en-GB" sz="2800" spc="-1" strike="noStrike" u="sng">
                <a:solidFill>
                  <a:srgbClr val="00007d"/>
                </a:solidFill>
                <a:uFillTx/>
                <a:latin typeface="Arial"/>
              </a:rPr>
              <a:t>meaning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Visual semantics are the cultural, communicative and social signs relate to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Examples of visual semantics signs includes:</a:t>
            </a:r>
            <a:br>
              <a:rPr sz="2800"/>
            </a:br>
            <a:r>
              <a:rPr b="0" i="1" lang="en-GB" sz="2800" spc="-1" strike="noStrike">
                <a:solidFill>
                  <a:srgbClr val="800000"/>
                </a:solidFill>
                <a:latin typeface="Arial"/>
              </a:rPr>
              <a:t>purpose, photo creator, date &amp; time of shooting, purpose, context, audience, relationship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: Syntax and Semant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Visual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Syntax is the grammatical </a:t>
            </a:r>
            <a:r>
              <a:rPr b="0" lang="en-GB" sz="2800" spc="-1" strike="noStrike" u="sng">
                <a:solidFill>
                  <a:srgbClr val="00007d"/>
                </a:solidFill>
                <a:uFillTx/>
                <a:latin typeface="Arial"/>
              </a:rPr>
              <a:t>arrangement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of words in sente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VL syntax is the form of building of blocks of an image. These blocks are called </a:t>
            </a:r>
            <a:r>
              <a:rPr b="0" i="1" lang="en-GB" sz="2800" spc="-1" strike="noStrike">
                <a:solidFill>
                  <a:srgbClr val="800000"/>
                </a:solidFill>
                <a:latin typeface="Arial"/>
              </a:rPr>
              <a:t>visual elements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Examples of visual elements includes:</a:t>
            </a:r>
            <a:br>
              <a:rPr sz="2800"/>
            </a:br>
            <a:r>
              <a:rPr b="0" i="1" lang="en-GB" sz="2800" spc="-1" strike="noStrike">
                <a:solidFill>
                  <a:srgbClr val="800000"/>
                </a:solidFill>
                <a:latin typeface="Arial"/>
              </a:rPr>
              <a:t>scale, dimension, arrangements, framing, motion, colour, light, shadow, juxtaposition, relative size, foreground, 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 (visual synt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r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ontr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3800" y="2276640"/>
            <a:ext cx="646200" cy="720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3008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Educational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050920" y="4266720"/>
            <a:ext cx="694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9900"/>
                </a:solidFill>
                <a:latin typeface="Arial"/>
              </a:rPr>
              <a:t>Presentation Four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ual Principles II: Visual Lite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16000" y="2924280"/>
            <a:ext cx="646200" cy="72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646200" cy="720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268360" y="1628640"/>
            <a:ext cx="6462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r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A technique used to bring the focus and depth to the subject and ob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What is included and excluded in an individual sh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The photographer’s determination of what the edges of a photograph will 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r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A wonderful scene, fram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by a window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492360" y="2711520"/>
            <a:ext cx="537048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r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A party attender, fram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by her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76720" y="2997360"/>
            <a:ext cx="556560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r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A beautiful sunset, naturally fram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by the clou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635280" y="2657520"/>
            <a:ext cx="5278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The direction from which the artist photographs the subjec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A technique used to change/improve the look of objects by using different camera dir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Angles are used to convey different information and feelings about the sam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If you like to sell your car, capture a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photos from an appropriate ang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635280" y="2725560"/>
            <a:ext cx="5232600" cy="39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Looks gr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564000" y="3040200"/>
            <a:ext cx="5338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Looks gr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7911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Looks young but ambitious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811680" y="3373560"/>
            <a:ext cx="53323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Looks more beautifu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51280" y="3068640"/>
            <a:ext cx="49276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Using optical &amp; digital images in edu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Looks b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707080" y="1773360"/>
            <a:ext cx="320040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Looks gr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284720" y="2322360"/>
            <a:ext cx="457524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284720" y="2778120"/>
            <a:ext cx="46083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19640" y="2997360"/>
            <a:ext cx="548640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ing is a technique used to imply a mood/emo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contrasting lighting (dark shadows, bright highlights) is more dramatic than a soft gentle 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ing and shadows also provide clues to the figuring out the larger setting and time of day the shot was t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924360" y="2944800"/>
            <a:ext cx="49816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540864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. Find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B. Define and describe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. Content &amp; image analysis (various student book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.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sing Images to create a visual story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cussions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&amp;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Using optical &amp; digital images in education: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er preferences and styles can more effectively be addr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hanced learning and retention take place through the use of visual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ng deeper understanding to complex subject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lp students focus at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 the decision-mak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ed adoption of major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ivate lear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Using optical &amp; digital images in education: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 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Literacy (V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Defining Visual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Literac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ns being able to read and compose imag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bility to discriminate and interpret visual actions, objects and other images, while gaining meaning from th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Literacy (V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Defining Visual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iteracy skills are required for effective learning and teaching via imag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Literacy (V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he importance of Visual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L uses images to teach critical and creative thinking, communication and visual lite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L increases student competence in constructing meaning from images that incorporate various curriculum-based su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L helps students sharpen their powers of obser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Literacy (V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he importance of Visual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L increases ability to locate information, analyze, reason and form conclusions about the photo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L opens up new worlds for students and engages them to write in more meaningful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L helps students to think more consciously about the details they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03:58:21Z</dcterms:created>
  <dc:creator>Alaa Sadik</dc:creator>
  <dc:description/>
  <dc:language>en-US</dc:language>
  <cp:lastModifiedBy>College OF Education</cp:lastModifiedBy>
  <dcterms:modified xsi:type="dcterms:W3CDTF">2008-10-07T08:52:14Z</dcterms:modified>
  <cp:revision>97</cp:revision>
  <dc:subject/>
  <dc:title>Instructional Computer  TECH2111</dc:title>
</cp:coreProperties>
</file>